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4866-F27B-4E64-8F6B-E24C743C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CD47-F4D9-477C-9045-3B534F6AEE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1DC-633F-49AB-9D10-F48957CB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4FE-24F7-4F19-985D-F763EF10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A4E-DF7F-4841-9F2E-73D81910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CA9-FB1B-4538-AE38-DCBD46F9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7FA-184C-4361-A83B-B2DB86F8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0B8-2B41-4F7A-BE24-F07D51E8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25E-9F38-4CD1-8AAA-87D4BFEB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048-3E7C-458E-B3F4-E0DEEFFC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FDE-CC46-4F40-B42F-67ECF93C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BCC-7CCE-4515-9D82-0F2FE9B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8C1-8DF6-44EC-9396-6AE4393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B70-DBCA-42EE-B535-3DF95BC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0C90-671F-4EA5-B0C3-56F597258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ainpop.com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brainpop.com/science/motionsforcesandtime/magnetism/" TargetMode="External"/><Relationship Id="rId4" Type="http://schemas.openxmlformats.org/officeDocument/2006/relationships/image" Target="../media/image2.wmf"/><Relationship Id="rId5" Type="http://schemas.openxmlformats.org/officeDocument/2006/relationships/hyperlink" Target="http://www.brainpop.com/technology/energytechnology/staticelectricity/zoom.weml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2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280" y="228600"/>
            <a:ext cx="87631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lecta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657600"/>
            <a:ext cx="8153280" cy="27752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None This Wee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76520" y="2286000"/>
            <a:ext cx="57909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ek 7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3258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Step 2:  Due MOND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ey Questions 11-15 Due Friday, March 2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typed!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143000"/>
            <a:ext cx="876312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ifference between static electricity and magnetism is that charges can exist by themselves and magnetic poles always occur in pair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" name="AnswerNow"/>
          <p:cNvGrpSpPr/>
          <p:nvPr/>
        </p:nvGrpSpPr>
        <p:grpSpPr>
          <a:xfrm>
            <a:off x="3048120" y="152280"/>
            <a:ext cx="2222280" cy="444240"/>
            <a:chOff x="3048120" y="152280"/>
            <a:chExt cx="2222280" cy="444240"/>
          </a:xfrm>
        </p:grpSpPr>
        <p:sp>
          <p:nvSpPr>
            <p:cNvPr id="110" name="ANShape"/>
            <p:cNvSpPr/>
            <p:nvPr/>
          </p:nvSpPr>
          <p:spPr>
            <a:xfrm>
              <a:off x="3048120" y="1522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NText"/>
            <p:cNvSpPr/>
            <p:nvPr/>
          </p:nvSpPr>
          <p:spPr>
            <a:xfrm>
              <a:off x="3048120" y="1522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7242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Magnetism &amp; Static 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0666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62284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rainpop.com/science/motionsforcesandtime/magnetis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80" y="6262560"/>
            <a:ext cx="84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rainpop.com/technology/energytechnology/staticelectricity/zoom.we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BrainPop: Magnetism &amp; Static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Switch for EFP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extbook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Key Question 14 &amp;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P Step 2 Due 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s 11-15 Due 3/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electricity and magnetism rel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43ECD834-697E-4474-8AED-E62F41B53992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ompare and Contrast Static Electricity and Magnetism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1523880" y="2057400"/>
            <a:ext cx="6096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0" y="0"/>
            <a:ext cx="2286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320" y="152280"/>
            <a:ext cx="67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gnetism &amp; Static Electr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 Assig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66680"/>
            <a:ext cx="9144000" cy="58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PAGES 14-19 TO ANSWER QUESTIONS 1-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art of an atom spins to produce a magnetic field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most materials not magnetic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ORMALLY ELECTRONS FORM PAIRS THAT SPIN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ANCELLING OUT THE MAGNETIC FIELDS LEAVING THE MATERIAL UNMAGNAT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 domain arrangements of magnetized and not magnetized materials compare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GNATIZED MATERIALS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MAINS THAT ARE ALLIGNED AND FACING THE SAME DIRECTION, WHILE MATERIALS THAT AREN’T MAGNAT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AVE DOMAINS THAT FACE IN MANY RANDOM DIRECTIONS AND CANCEL EACH OTHER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common ferromagnetic materials found in nature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RON, NICKEL, COBALT, GONDOLINIUM, NEODYMIUI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ND SAMARIUM ARE SOME COMMON FERROMAGNETIC MATERIALS FOUND IN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 temporary magnet from a paperclip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Y RUBBING IN ONE DIRCTION WITH ONE PO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GNET YOU CAN MAKE A TEMPORARY MAGNET FROM A PAPER CLIP.  THIS CAUSES THE DOMAINS IN TH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APERCLIP TO LINE UP WITH THE POLES OF THE MAGNET CAUSING THE CLIP TO BECOME MAGNAT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wo different ways to destroy a magnet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GNETS CAN BE DESTROYED BY DROPPING/HITTING OR H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break a magnet in half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HEN A MAGNET IS CUT OR BROKEN IN HALF IT BECOMES 2 SM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GNETS.  EACH MAGNET WILL HAVE A NORTH AND SOUTH POLE ON ITS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ELECTRIC CHARGE” (PAGE 35) TO ANSWER QUESTIONS 8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that are the same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EPEL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that are different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TTRACT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one important difference between electric charges and magnetic poles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LECTRIC CHARGES CAN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LONE (A BUILD-UP OF POSITIVE OR NEGATIVE CHARGE), BUT MAGNETIC POLES ARE ALWAYS IN PAIRS (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ND SOUTH TOGETH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34880"/>
            <a:ext cx="9144000" cy="61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STATIC ELCTRICITY” (PAGE 37) TO ANSWER QUESTIONS 11 &amp;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tatic electricity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ATIC ELECTRICITY IS THE BUILD-UP OF CHARGES ON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static mean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ATIC MEANS “NOT MOVING OR CHANGING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TRANSFERRING CHARGE” (PAGES 38 &amp; 39) TO ANSWER QUESTIONS 13-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FRICTION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transfer of electrons from one uncharged object to another b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RUBB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NDUCTION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transfer of electrons from a charged object to another by direct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NTACT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DUCTION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transfer of electrons to one part of an object that is caused by the electr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IELD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econd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STATIC DISCHARGE” (PAGES 40 &amp; 41) TO ANSWER QUESTIONS 16 &amp; 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negatively and positively charged objects are brought near each other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HEN OPPOSIT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BJECTS ARE BROUGHT NEAR EACH OTHER ELECTRONS TRANSFER UNTIL BOTH OBJECTS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ny spark you see when touching a doorknob and lightning are both examples of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STATIC DISCHARGE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609480"/>
            <a:ext cx="899136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4: What is magnetism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magnetism, magnetic poles, and magnetic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 the terms below with their defin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etis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s of a magnetic object where the magnetic force is 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s inside all objects that when lined up create a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of attraction or repulsion among magnetic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ai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e region around a magnet where magnetic force is exe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magnets behave when brought near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the magnets below attract or repe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an object can be magnet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can you do to create a temporary magnet out of a papercli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6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9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429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81984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962840" y="3505320"/>
            <a:ext cx="9525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3840" y="3949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560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724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486080" y="39495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648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8077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609480"/>
            <a:ext cx="899136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5: What is static electricity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static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electricity i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dentify 2 types of electric charge and describe how they interact with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w arrows to represent the motion of the balls in the picture given the charges indic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ive examples of times when you may experience static electricity or how it can be usefu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have you felt or witnessed a static dischar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 at least 3 instances of static electricity in use during real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70021" b="-9021"/>
          <a:stretch/>
        </p:blipFill>
        <p:spPr>
          <a:xfrm>
            <a:off x="19810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69369" t="0" r="0" b="0"/>
          <a:stretch/>
        </p:blipFill>
        <p:spPr>
          <a:xfrm>
            <a:off x="1066680" y="2666880"/>
            <a:ext cx="505080" cy="41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0" r="70021" b="-9021"/>
          <a:stretch/>
        </p:blipFill>
        <p:spPr>
          <a:xfrm>
            <a:off x="48006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9369" t="0" r="0" b="0"/>
          <a:stretch/>
        </p:blipFill>
        <p:spPr>
          <a:xfrm>
            <a:off x="7543800" y="2743200"/>
            <a:ext cx="504720" cy="41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rcRect l="0" t="0" r="70021" b="-9021"/>
          <a:stretch/>
        </p:blipFill>
        <p:spPr>
          <a:xfrm>
            <a:off x="39625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rcRect l="69369" t="0" r="0" b="0"/>
          <a:stretch/>
        </p:blipFill>
        <p:spPr>
          <a:xfrm>
            <a:off x="6734160" y="2743200"/>
            <a:ext cx="504720" cy="419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590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7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6556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16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976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2316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3:26:26Z</dcterms:created>
  <dc:creator>CCPS</dc:creator>
  <dc:description/>
  <dc:language>en-US</dc:language>
  <cp:lastModifiedBy>CCPS</cp:lastModifiedBy>
  <dcterms:modified xsi:type="dcterms:W3CDTF">2010-03-12T13:26:51Z</dcterms:modified>
  <cp:revision>1</cp:revision>
  <dc:subject/>
  <dc:title>Slide 1</dc:title>
</cp:coreProperties>
</file>